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E0D-B397-4E5D-B972-A5C2679C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2E1-8AE9-4577-8DD6-9CB067AC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854-AFCD-46E5-98C3-245BF17A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3F6-60F5-483E-B2CD-A46DF9F9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622-C094-4A62-8103-F0AE6055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C6A-C95C-4767-8965-0C86D33F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412-ACD5-4DB9-A013-6B4113A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357-9B51-4630-85F3-FF9FB80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8638-D153-483D-AC0B-1E3D3A69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1B5-D00C-4D72-BE46-32965AD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88F-69FE-4D98-A527-14038EB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70A-7029-4E1B-9196-E3AB317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2E35-A4DD-44AE-A4AA-98CBB6F9C5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12500" t="8999" r="13749" b="5999"/>
          <a:stretch/>
        </p:blipFill>
        <p:spPr>
          <a:xfrm>
            <a:off x="2209680" y="1295280"/>
            <a:ext cx="4724640" cy="340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42" name=""/>
          <p:cNvGraphicFramePr/>
          <p:nvPr/>
        </p:nvGraphicFramePr>
        <p:xfrm>
          <a:off x="7924680" y="228600"/>
          <a:ext cx="83844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22860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" name=""/>
          <p:cNvGrpSpPr/>
          <p:nvPr/>
        </p:nvGrpSpPr>
        <p:grpSpPr>
          <a:xfrm>
            <a:off x="2590920" y="228600"/>
            <a:ext cx="3886200" cy="825480"/>
            <a:chOff x="2590920" y="228600"/>
            <a:chExt cx="3886200" cy="825480"/>
          </a:xfrm>
        </p:grpSpPr>
        <p:pic>
          <p:nvPicPr>
            <p:cNvPr id="45" name="Repubblica%20italiana" descr=""/>
            <p:cNvPicPr/>
            <p:nvPr/>
          </p:nvPicPr>
          <p:blipFill>
            <a:blip r:embed="rId5"/>
            <a:stretch/>
          </p:blipFill>
          <p:spPr>
            <a:xfrm>
              <a:off x="2590920" y="228600"/>
              <a:ext cx="53316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200400" y="228600"/>
              <a:ext cx="32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Kunstler Script"/>
                </a:rPr>
                <a:t>Autorità di Bacino del Fiume Ar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4800600"/>
            <a:ext cx="9144000" cy="8254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l Piano di gestione dell’Appennino Settentrionale: idee e conten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67280"/>
            <a:ext cx="9144000" cy="6426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. Marcello Brug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.brugioni@adbarno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5627" t="18999" r="15627" b="10501"/>
          <a:stretch/>
        </p:blipFill>
        <p:spPr>
          <a:xfrm>
            <a:off x="990720" y="1325520"/>
            <a:ext cx="7086600" cy="45417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rcRect l="17502" t="17998" r="19376" b="10000"/>
          <a:stretch/>
        </p:blipFill>
        <p:spPr>
          <a:xfrm>
            <a:off x="990720" y="1071720"/>
            <a:ext cx="7086600" cy="50241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La partecipazione e la consapevolezza: alcuni dat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5001" t="18999" r="4375" b="13000"/>
          <a:stretch/>
        </p:blipFill>
        <p:spPr>
          <a:xfrm>
            <a:off x="571680" y="1600200"/>
            <a:ext cx="8038800" cy="3770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La partecipazione e la consapevolezza: alcuni dat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rcRect l="15627" t="18999" r="15627" b="10501"/>
          <a:stretch/>
        </p:blipFill>
        <p:spPr>
          <a:xfrm>
            <a:off x="990720" y="1325520"/>
            <a:ext cx="7086600" cy="454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La partecipazione: alcuni dat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13749" t="23001" r="10000" b="11002"/>
          <a:stretch/>
        </p:blipFill>
        <p:spPr>
          <a:xfrm>
            <a:off x="457200" y="1338120"/>
            <a:ext cx="8229600" cy="44532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La partecipazione e la consapevolezza alcuni dat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r. Marcello Brug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.brugioni@adbarno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520" y="809640"/>
            <a:ext cx="8381880" cy="523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3244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principi “chiave” delle dir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638680" y="304920"/>
          <a:ext cx="3268800" cy="36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04920"/>
                    <a:ext cx="3268800" cy="3600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785880"/>
            <a:ext cx="9144000" cy="47941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’uso della risorsa acqua deve essere “sostenibile” in tutta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devono definire obiettivi ambiziosi per il raggiungimento dello “stato buono” entro il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acque superficiali e sotterranee deve essere inquadrate alla scala del distretto idrogra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ve essere realizzato un piano di gestione in cui si deve considerare il bilanciamento degli interessi dell’ambiente con quelli di chi dipende da 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devono applicare politiche di “costo” dell’acqua basate sul principio di chi inquina pa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ve essere assicurata  la partecipazione alla costruzione del piano di tutti i “portatori di interesse”, dagli enti, alle associazioni, ai cittad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76320"/>
            <a:ext cx="3353040" cy="398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direttiva 200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638680" y="304920"/>
          <a:ext cx="3268800" cy="36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04920"/>
                    <a:ext cx="3268800" cy="3600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processo di realizzazione del piano 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65280"/>
            <a:ext cx="9144000" cy="22885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r ogni distretto idrografico deve essere messo a punto un processo che permetta entro il 2009 di realizzare il primo piano di gestio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piano dovrà conten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quadro conoscitivo dello stato attuale delle risorse acquifere del dist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misure programmete per raggiungere gli obiettivi prefiss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azioni svolte per la partecipazione e la comun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piano dovrà quindi essere monitorato e rivisto entro il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41360"/>
            <a:ext cx="3352680" cy="3988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direttiva 200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15001" t="3000" r="15001" b="8999"/>
          <a:stretch/>
        </p:blipFill>
        <p:spPr>
          <a:xfrm>
            <a:off x="1143000" y="1066680"/>
            <a:ext cx="6858000" cy="538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rcRect l="44377" t="27002" r="6250" b="28003"/>
          <a:stretch/>
        </p:blipFill>
        <p:spPr>
          <a:xfrm>
            <a:off x="838080" y="1525680"/>
            <a:ext cx="7467840" cy="425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sistema dei distretti idrografic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981080" y="1143000"/>
          <a:ext cx="518184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1143000"/>
                    <a:ext cx="5181840" cy="44956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distretto dell’Appennino settentr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rcRect l="16250" t="11002" r="12500" b="5003"/>
          <a:stretch/>
        </p:blipFill>
        <p:spPr>
          <a:xfrm>
            <a:off x="914400" y="685800"/>
            <a:ext cx="7391520" cy="544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rcRect l="16250" t="11002" r="12500" b="5003"/>
          <a:stretch/>
        </p:blipFill>
        <p:spPr>
          <a:xfrm>
            <a:off x="914400" y="685800"/>
            <a:ext cx="7391520" cy="54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1752480"/>
            <a:ext cx="9144000" cy="20142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1.000 chilometri quad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 Autorità di bac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 bacini idrograf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 Reg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 Prov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00 Comu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.000.000 abita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BS00554_" descr=""/>
          <p:cNvPicPr/>
          <p:nvPr/>
        </p:nvPicPr>
        <p:blipFill>
          <a:blip r:embed="rId2"/>
          <a:stretch/>
        </p:blipFill>
        <p:spPr>
          <a:xfrm>
            <a:off x="4711680" y="2703600"/>
            <a:ext cx="3975120" cy="3468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9720" y="182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533520"/>
            <a:ext cx="4572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contenuti del piano di gest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. Le caratteristiche del dist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9810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. Le pressioni e gli impa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382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. Il cambiamento clima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954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. Le aree prot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526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. Il monitor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8098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. Gli obiettivi ambient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2670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. L’analisi econo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7242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. Il programma di mi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814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. La partecipazione pub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6256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l processo di p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838080" y="1066680"/>
          <a:ext cx="7488360" cy="492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488360" cy="49294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2514600"/>
            <a:ext cx="9144000" cy="228852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utti i portatori di interesse (enti, gestori, comunità locali, singoli cittadini, etc.) devono essere coinvolti nel processo di formazione del piano. Questo per tre principali motiv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formare tutte le parti dello stato di avanzamento del p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accogliere informazioni a più livelli ed ordini di grand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viluppare le varie alternative per raggiungere gli obiettivi ed ottenere il massimo consenso tra le autorità e le par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8788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 partecipazione pubblica è uno dei principi chiave della direttiva 2000/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rcRect l="4375" t="21002" r="3750" b="13000"/>
          <a:stretch/>
        </p:blipFill>
        <p:spPr>
          <a:xfrm>
            <a:off x="533520" y="1749600"/>
            <a:ext cx="8153280" cy="366048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3"/>
          <a:srcRect l="5624" t="17998" r="3750" b="16000"/>
          <a:stretch/>
        </p:blipFill>
        <p:spPr>
          <a:xfrm>
            <a:off x="533520" y="1752480"/>
            <a:ext cx="8153280" cy="3692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La partecipazione e la consapevolezza: alcuni dat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6140520"/>
            <a:ext cx="9144000" cy="3682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La partecipazione e la consapevolezza alcuni dati in eu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5001" t="17998" r="3750" b="13000"/>
          <a:stretch/>
        </p:blipFill>
        <p:spPr>
          <a:xfrm>
            <a:off x="457200" y="1523880"/>
            <a:ext cx="8305920" cy="3926160"/>
          </a:xfrm>
          <a:prstGeom prst="rect">
            <a:avLst/>
          </a:prstGeom>
          <a:ln w="3816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31:15Z</dcterms:created>
  <dc:creator>marcello.brugioni</dc:creator>
  <dc:description/>
  <dc:language>en-US</dc:language>
  <cp:lastModifiedBy>bernardo.mazzanti</cp:lastModifiedBy>
  <dcterms:modified xsi:type="dcterms:W3CDTF">2009-04-01T15:00:17Z</dcterms:modified>
  <cp:revision>58</cp:revision>
  <dc:subject/>
  <dc:title>Presentazione di PowerPoint</dc:title>
</cp:coreProperties>
</file>